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6880"/>
            <a:ext cx="4589280" cy="34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13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13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24A-F956-45F8-B33C-9073B0D8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2: How do Gardner’s and Sternberg’s theories of multiple intelligences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3: What is creativity, and what foster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makes up emotional intelli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5: To what extent is intelligence related to brain anatomy and neural processing sp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6: When and why were intelligence tests cre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What’s the difference between aptitude and achievement tests, and how can we develop and evalu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8: How stable are intelligence scores over the life sp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9: What are the traits of those at the low and high intelligence extrem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10: What does evidence reveal about hereditary and environmental influences on intellig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11: How and why do gender and racial groups differ in mental ability sc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2: Are intelligence tests inappropriately bia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57440"/>
            <a:ext cx="5486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gues for and against considering intelligence as one general mental abil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8C1-C826-4A83-AA5B-E34F6F30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4AC-D6FC-4BC8-921A-3098917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E6B-FBD5-447E-98D3-0B6E8D79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24C-E990-448E-A2C4-6182C711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855-7CD8-4F0E-8996-C2E3E73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E3C-7EFB-45AE-857A-EE82005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F34-03B2-457D-A527-DC3722C3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5C6-50D5-41F5-B6A5-95BA1F1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DC2-B206-4228-9B60-46944062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10E-2747-4AF8-97E7-F93E7517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084-680F-4090-94E1-5844EE1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7DF-A098-4961-9310-C157331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3432-989C-4C20-B200-D10D16049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5235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31F-36FD-4B58-A119-CDD1C498FA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pearman proposed that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eneral intelligence (g)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linked to many clusters that can be analyzed by factor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320" y="3352680"/>
            <a:ext cx="7791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, people who do well on vocabulary examinations do well on paragraph comprehension examinations, a cluster that helps define verbal intelligence. Other factors include a spatial ability factor, or a reasoning ability fa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B16-4E9D-48A7-B737-2E981451B019}" type="slidenum">
              <a:t>10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temporary Intelligence The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ard Gardner (1983, 1999) supports the idea that intelligence comes in multiple forms. Gardner notes that brain damage may diminish one type of ability but not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95480" y="3809880"/>
            <a:ext cx="5124600" cy="2202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80840" y="6019920"/>
            <a:ext cx="57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with </a:t>
            </a:r>
            <a:r>
              <a:rPr b="0" lang="en-US" sz="2000" spc="-1" strike="noStrike">
                <a:solidFill>
                  <a:srgbClr val="0000ff"/>
                </a:solidFill>
                <a:latin typeface="Palatino Linotype"/>
              </a:rPr>
              <a:t>savant syndrome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xcel in 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nrelated to general intellig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83A-08A3-484F-850F-ABAF78A37E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ard Gard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28840"/>
            <a:ext cx="838224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proposes eight types of intelligences and speculates about a ninth one —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. 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istential intelligence is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ability to think about the question of life, death and ex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11560" y="3352680"/>
            <a:ext cx="4489200" cy="34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339-19BD-43AA-A431-D03A02C741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obert Sternbe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6002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ernberg (1985, 1999, 2003) also agrees with Gardner, but suggests three intelligences rather than 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2320" y="3571920"/>
            <a:ext cx="77914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naly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assessed by intelligenc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reative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makes us adapt to novel situations, generating novel id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actical Intelligenc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ntelligence that is required for everyday tasks (e.g. street smar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FEB-D0D4-4025-AECA-83A762AC22A9}" type="slidenum">
              <a:t>13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6002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ativity is the ability to produce ideas that are both novel and valuable. It correlates somewhat with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97180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Expertis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well-developed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maginative Thinking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e ability to see things in nove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Venturesome Persona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personality that seeks new experiences rather than following the 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Intrinsic Motivation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motivation to be creative from with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A Creative Environment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 creative and supportive environment allows creativity to bl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BED-3383-49C5-8988-512E26B6DCF8}" type="slidenum">
              <a:t>14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1400" y="16002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 is the ability to perceive, understand, and use emotions (Salovey and others, 2005). The test of emotional intelligence measures overall emotional intelligence and its four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F65-1DBF-4141-8FC2-62157D50AC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7772400" cy="3794400"/>
        </p:xfrm>
        <a:graphic>
          <a:graphicData uri="http://schemas.openxmlformats.org/drawingml/2006/table">
            <a:tbl>
              <a:tblPr/>
              <a:tblGrid>
                <a:gridCol w="3124080"/>
                <a:gridCol w="4648320"/>
              </a:tblGrid>
              <a:tr h="60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pon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ceiv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cognize emotions in faces, music and st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nderstand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edict emotions, how they change and bl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ag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ress emotions in different sit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tilize emotions to adapt or be cre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03C-C261-40EC-B237-2C18AB7BBC2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motional Intelligence: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6002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ardner and others criticize the idea of emotional intelligence and question whether we stretch this idea of intelligence too far when we apply it to our emo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C67-5C50-4021-A114-76FDAF41693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ssessing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ists define intelligence testing as a method for assessing an individual’s mental aptitudes and comparing them with others using numerical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F0E-3BD5-4ACA-BBE2-A5AB79C263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lfred 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lfred Binet and his colleague Théodore Simon practiced a more modern form of intelligence testing by developing questions that would predict children’s future progress in the Paris schoo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02120" y="1600200"/>
            <a:ext cx="38466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0B4-5509-4565-B201-379E2562D4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275760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253" t="0" r="2082" b="0"/>
          <a:stretch/>
        </p:blipFill>
        <p:spPr>
          <a:xfrm>
            <a:off x="76320" y="76320"/>
            <a:ext cx="3352680" cy="28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1FB-B077-4338-92AB-344BF81CED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ewis T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4240" y="1752480"/>
            <a:ext cx="3693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143000"/>
            <a:ext cx="4205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US, Lewis Terman adapted Binet’s test for American school children and named the test the Stanford-Binet Test. The following is the formula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 Quotient (IQ)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troduced by William Ste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3730680" cy="100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A1B-A5FC-4A79-B111-DD7D2997514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avid Wechs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600200"/>
            <a:ext cx="4205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chsler develop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Adult Intelligence Scale (WAIS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later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Wechsler Intelligence Scale for Children (WISC),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telligence test for school-aged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47508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968-4D88-4469-A95B-D8ED800F08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A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29528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AIS measures overall intelligence and 11 other aspects related to intelligence that are designed to assess clinical and education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11028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1FD-3BB8-4DE7-B839-DDB259554A6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16002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a psychological test to be acceptable it must fulfill the following three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7040" y="3200400"/>
            <a:ext cx="337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260-1BFF-4E49-A5AB-32BB46954BB0}" type="slidenum">
              <a:t>23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tandard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ing a test involves administering the test to a representative sample of future test takers in order to establish a basis for meaningful compar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27F-FDDA-4060-B616-E5C36A5FC6E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rmal Cur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ndardized tests establish a normal distribution of scores on a tested population in a bell-shaped pattern called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al curv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19160" y="3200400"/>
            <a:ext cx="6186600" cy="33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4EF-DAD6-4214-99AE-DA2BAAB917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Reli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est is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reliabl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when it yields consistent results. To establish reliability researchers establish different proced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581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Split-half Reliabil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Dividing the test into two equal halves and assessing how consistent the scores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est-Retest Reliability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the same test on two occasions to measure consist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B16-2765-43EB-8741-1D2514DE8E26}" type="slidenum">
              <a:t>26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li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liability of a test does not ensure validity. Validity of a test refers to what the test is supposed to measure or pred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14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Content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extent a test measures a particular behavior or tr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Predictive Validit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Refers to the function of a test in predicting a particular behavior or tr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BBD-A7BB-4F8F-8DD5-DBF38D64E693}" type="slidenum">
              <a:t>27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25720" y="3429000"/>
            <a:ext cx="5064120" cy="3170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1419120"/>
            <a:ext cx="838188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valid intelligence test divides two groups of people into two extremes: the mentally retarded (IQ 70) and individuals with high intelligence (IQ 135). These two groups are significantly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6AA-E16D-4018-AEF6-1EBF919FC82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igh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ontrary to popular belief, people with high  intelligence test scores tend to be healthy, well adjusted, and unusually successful academicall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57560" y="3429000"/>
            <a:ext cx="28004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5DA-2A40-4E1C-919E-33FCF93F03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6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2578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One General Ability or Several Specific Abiliti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telligence and 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motional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s Intelligence Neurologically Measur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7D5-8620-4821-860D-8695E45036D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ntal Retar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6840" y="160020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tally retarded individuals required constant supervision a few decades ago, but with a supportive family environment and special education they can now care for them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4967280" cy="3328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3400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F3E-582C-4C2C-A5A2-197C773EBB9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lynn Ef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120" y="1600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past 60 years, intelligence scores have risen steadily by an average of 27 points.  This  phenomenon is known as the Flynn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1400" y="3200400"/>
            <a:ext cx="7772400" cy="30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CEB-9538-44D6-88FB-FC3D52B8151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36232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o other topic in psychology is so passionately followed as the one that asks the question, “Is intelligence due to genetics or environment?”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D93-5CA8-4072-97C4-CF8DD7C4F06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tic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5790960" cy="3681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0880" y="137160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, family members, and adopted children together support the idea that there is a significant genetic contribution to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986-5CDC-46CC-9E62-1BB1B01E701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ed children show a marginal correlation in verbal ability to their adopte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0200" y="2819520"/>
            <a:ext cx="772452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2DD-0CA7-4209-BB09-18A5281A30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1337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variation in intelligence test scores attributable to genetics. We credit heredity with 50% of the variation in intellig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t pertains only to why people differ from one another, not to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0A9-FAA5-4191-9C73-973328A1B1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840" y="160020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ies of twins and adopted children also show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590920"/>
            <a:ext cx="8382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raternal twins raised together tend to show similarity in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dentical twins raised apart show slightly less similarity in their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2D6-71B0-4032-9BEC-E99DA521861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arly Intervention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neglect from caregivers leads children to develop a lack of personal control over the environment, and it impoverishes their intellig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9080" y="3429000"/>
            <a:ext cx="3857400" cy="2629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42360" y="604188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manian orphans with mi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uman interaction are delayed in their develo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7E5-FDCA-4859-8DFC-FA22C822436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chooling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6840" y="160020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hooling is an experience that pays dividends, which is reflected in intelligence scores. Increased schooling correlates with higher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70280" y="6041880"/>
            <a:ext cx="51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increase readiness for schoolwor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jects like Head Start facilitate lea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33640" y="3860640"/>
            <a:ext cx="6900840" cy="21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880-24D6-432E-951E-9FA97B5EC08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66688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y do groups differ in intelligence? How can we make sense of these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EDE-48EA-4470-B1EE-634868B6E58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Assessing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igins of Intellige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dern Tests of Mental 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nciples of Test Co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The Dynamics of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bility or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tremes of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950-7886-42C0-9279-FEF510741F3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thnic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1400" y="30481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acial groups differ in their average intelligence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igh-scoring people (and groups) are more likely to attain high levels of education and in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6840" y="16002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discuss this issue we begin with two disturbing but agreed upon fa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425-F15B-4367-8386-19D581679F9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acial (Group)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840" y="1600200"/>
            <a:ext cx="838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we look at racial differences, white Americans score higher in average intelligence than black Americans (Avery and others, 1994). European New Zealanders score higher than native New Zealanders (Braden, 199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4406760"/>
          <a:ext cx="7315200" cy="11034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3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ite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lack-Americ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verage IQ = 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006720" y="599436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ispanic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572000" y="5509800"/>
            <a:ext cx="0" cy="48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5E2-5C5E-4987-A54B-6A1AC0ACFAE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nvironmental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1419120"/>
            <a:ext cx="8381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ferences in intelligence among these groups are largely environmental, as if one environment is more fertile in developing these abilities than the oth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960" y="3124080"/>
            <a:ext cx="8128080" cy="30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FB6-3E7D-411F-8B8D-5651E639337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asons Why Environment Affects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s are remarkably alike genet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ce is a social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sian students outperform North American students on math achievement and aptitude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day’s better prepared populations would outperform populations of the 1930s on intelligence te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ite and black infants tend to score equally well on tests predicting future intel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ethnic groups have experienced periods of remarkable achievement in different 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910-7A9A-46EE-8972-B983C3743B2F}" type="slidenum">
              <a:t>43</a:t>
            </a:fld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3716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e are seven ways in which males and females differ in variou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43000" y="2438280"/>
          <a:ext cx="6796080" cy="4082760"/>
        </p:xfrm>
        <a:graphic>
          <a:graphicData uri="http://schemas.openxmlformats.org/drawingml/2006/table">
            <a:tbl>
              <a:tblPr/>
              <a:tblGrid>
                <a:gridCol w="6796080"/>
              </a:tblGrid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. Girls are better spell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. Girls are verbally fluent and have large vocabul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. Girls are better at locating 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. Girls are more sensitive to touch, taste, and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. Boys outnumber girls in counts of underachie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. Boys outperform girls at math problem solving, but under perform at math compu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7. Women detect emotions more easily than men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8F2-953B-482A-A0E1-C33DF1D86CE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6840" y="1600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ptitude tests are necessarily biased in the sense that they are sensitive to performance differences caused by cultural dif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6840" y="3886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aptitude tests are not biased in the sense that they accurately predict performance of one group over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2D7-73DC-42BB-A925-778DD45EDB5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est-Takers’ Expec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tereotype threa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 self-confirming concern that one will be evaluated based on a negative stere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9120" y="35812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phenomenon appears in some instances in intelligence testing among African-Americans and among women of all col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92-8553-4FCD-ACA4-6061FCDE4BE2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447560"/>
            <a:ext cx="6705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etic and Environmental Influences on Intellig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and Adoption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vironmental Infl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roup Differences in Intelligence Test S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Question of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7FF-194A-440E-9805-5A0FEDA324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o we have an inborn general mental capacity (intelligence)? If so, can we quantify this capacity as a meaningful numb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29D-2D33-405A-BC24-5158865F5B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Intellig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in all cultures) is the ability to learn from experience, solve problems, and use our knowledge to adapt to new situ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720" y="4038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research studies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whatever the intelligence test measures. This tends to be “school smart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F1A-08C4-4320-AC68-C2F0C2CD6874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Intelligence: Ability or Abil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1400" y="1590840"/>
            <a:ext cx="7772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ave you ever thought that since people’s mental abilities are so diverse, it may not be justifiable to label those abilities with only one word,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intellig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A23-DB89-47FF-87D6-1C9CA9CF15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ral Intelli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idea that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ral intelligence (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exists comes from the work of Charles Spearman (1863-1945) who helped develop th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factor analysi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pproach in stat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3840" y="342900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03240" y="619452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hleticism, like intelligence, is many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AE6-CB84-4D30-8DC6-F6AE0A8406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2:43Z</dcterms:modified>
  <cp:revision>571</cp:revision>
  <dc:subject/>
  <dc:title>Memory</dc:title>
</cp:coreProperties>
</file>